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1EA-64E6-4E43-BFE8-77071908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D95-31F0-4240-9B70-A2A8A042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072-E2E5-415E-962C-76C2D5BB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E0B-F05E-4D41-966B-2636E8DD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E059-66C3-454A-90C0-9209FE0F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40921-1530-4FBC-B7D0-5B402983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63A32-CE02-4F6D-93E0-4B5F6F1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0077E-66EF-4412-B2C8-873AC0F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44F87-809E-4D06-B734-16A16D0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8A4CB-75D3-4161-8F1B-54A18E4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14AB-3F11-48E0-BB03-A71049C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6CF-CBB8-455A-90D9-AC411E76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21A8C-1622-487B-BB4B-BF05F74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13955-A356-4B88-8E10-CE22672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07DEC-7E2D-4213-B04A-8271C93C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8DA9B-A93A-484D-826D-21214333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8FE4B-0206-48C6-9B93-53CF144C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3C46-F21D-4994-B461-CBE53BE8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7843-96DF-4939-8A43-26CAF3C5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56B9-424F-40D0-A2D6-CC4D152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E998-1A17-47C7-8492-F8A9FE6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7E3D-791A-40C3-A73F-CBFBAA37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987-1939-41E3-BE91-A90BB8F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DB5B-7265-4EEE-99CD-248B940B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18DF-63F3-4FC2-9FD4-FAD1C30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1705-6A65-405D-8ACA-A5E8298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F9F-2685-4E77-AB92-1451267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D2D3-FF7C-46DC-BE99-F2F886C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7AA0-E3E4-4B2C-9F07-5A23684A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06DB-712E-4A2E-B411-F73ACA0B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A078-D76C-4312-9069-96757CC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CF6E-1660-4337-93EB-61F53C0B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051D-C99E-4831-8097-E045AAF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8CB-A953-40FE-AE42-BC1C3C6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986D-7CA4-4FFD-87AD-CB657B9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1A4B-5873-4E9E-B2BB-17BEA2B6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7286-48C0-4400-8BCC-2123436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2FD9-84F5-4A38-86DE-1DE4C2C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B0E5-FEB2-48FF-B17B-5C1E229D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863F-D21D-4222-BC52-BBA185C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5D59-8342-43EB-A9CA-AFB5C0A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FA6D-7016-450F-AA29-1EC85CD3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1836-18FC-4AD4-8634-B29D2129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906A-277D-4AF4-9269-3EFA8511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16B-BA26-4FE9-B56D-1C43FDC8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A101-060A-4669-9246-65926ED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2481-0979-4C3D-930D-4384A84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E1B0-2EDA-408F-BD96-BAD8B33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5A727-BDD8-406D-A642-FB2362F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EEC6-EE40-4753-9F53-2640E1CD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7CCF-7089-41B7-A796-10810EA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A8E1-B317-4C6A-8E4E-32C1DA0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6B22-0B0C-450C-A374-6637B6D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A19B-CCA9-44BE-B464-463D953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CFDE-6142-4547-8979-72DC9151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D38-8E94-48CB-939E-3EF94755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B4DF-DA01-43D3-9241-FCB4C609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48F9-1B8A-4FC8-BBA1-3086D027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CB9BD-337A-4FFA-A8AC-46CF5D1E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9C3D2-82EE-4834-AF63-0C68644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6F49E-CFE3-4879-B5D5-A58F57AB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B8112-4CF6-4D95-AE0B-E7B418D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CB5F-D79F-4EAA-B311-7A887BAD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4B42-4B3D-43B1-9C59-6CC54C7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74034-6226-4C85-956F-4452868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7E71E-34A5-46C0-BB87-FC17163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E55-900F-4978-A18A-03E9788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BC44E-F7A2-4273-B9C3-C8BAC3C9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BBD0A-C17E-4FD9-992A-AE8A7F22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B15D-C863-45E1-B127-DD71365D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69BE7-59C9-4784-86CB-428A5D63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EAFD-251F-46E1-BF5C-12B6D843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81C1-5975-4027-960C-DADC5243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9D31-8CB9-4978-BCA0-EE371962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4E09-37BA-410D-B61B-C8FE267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D927-9929-4A6C-816C-B906B43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5F12-BD4E-44BD-8A94-29E23FE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3AB-CDEC-4793-A4B7-6E2A1E3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322D-A90D-43ED-89F5-BD4BEB2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7D7C6-2F57-4E49-A7FB-9EB0FA0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D4EE-AE5B-4CE0-893A-BC17E63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4EC0-8DE0-44BD-940D-9F69A3BB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3D4CC-0692-4785-A52E-AAD238F2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AF20-B6FF-46F4-A4BE-990A31E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26B5C-1913-4252-9723-AF46D1C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98BD-FB9B-4680-954E-9F20423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02C4-1CF0-421A-8CFF-0007071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2966-0A47-4E98-A8C3-7004A04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C14-4EFE-420D-B7E1-097DBFC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8285-A2C2-453A-8F42-8B179FF6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4247D-F345-487B-ADAF-45E3004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3381B-2A38-4C30-84D2-A341528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9B28-28DD-485C-90AE-CE3F7AA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920D-2677-44CD-8C49-06F0C5C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2EF8F-CEC3-4E41-935A-E151F1DA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8F8A4-D391-45AB-AF6A-30BA0312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EF6-579C-49C7-A1F0-6F3FEF07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05AB-AD6F-4C0C-AF65-22E245FCA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D17-7E01-4B03-9848-93B0B50AD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00A-C12E-4DCB-92F2-6944CDB5E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7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D027-A8BD-49EF-AB6B-9B129C313C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5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A45-C075-4B53-8AE6-9237A73871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2BB-552E-4021-B7BA-7B2ACAF110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E21-0441-445E-93FF-B548A5D0E4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6fa9b7"/>
                </a:solidFill>
                <a:latin typeface="Tahoma"/>
              </a:rPr>
              <a:t>Mi gran viaje a la Argen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: Alec D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rimer 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600"/>
                </a:solidFill>
                <a:latin typeface="Tahoma"/>
              </a:rPr>
              <a:t>Mi gran ho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75438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rida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lleg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la hotel en Puerto Iguazu, Argentina. Mi hotel es muy grande. El nombre de mi hotel es Centara Grand Beach Resort Phuket. En el hotel hay muchas actividades, tiene una playa, y tiene una piscina muy bonita. En Argentina, hace buen tiempo. Hace calor y el sol b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il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ui con mi padre. Yo trajo los gafas de sol, los pantalones, una camisa, sandalias,  un sombrero, y una tabla hawaian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balneario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838080" y="342900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a, abu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fui a la playa. Yo fui surfing. Las olas son muy grande, y es muy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ificil para montar. Yo fui buceo, tambien! Cuando yo fui buceo, yo vi muy pescado y cangrejo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s muy interesante! El mar hace calor, pero no hace calor siempre. Algunos hace muy frio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Ti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410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nuev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ad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365760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fui a las tiendas de surfing. Yo comp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una tabla hawaiana. Yo compro cera para mi surfboard, tambien. En total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 quinientos dólares. Yo no fui surfing porque el tiempo esta mal, pero yo estoy contento porque yo comp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una table hawaian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pero verte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36194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Cuatro d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Arial"/>
              </a:rPr>
              <a:t>í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la, Hann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 fui al restaurante muy bueno.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a ensalada, un pescado, y una soda. La comida es muy buena. Pero, el servicio es mal. Yo l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 traje porque el restaurante es muy elegante. Pag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600 pesos. Pero yo tengo muy pesos para mi viaje porque es para un emergenc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 todo mi afec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ec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267080" y="44197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Final 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o, B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2438280"/>
            <a:ext cx="381024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dia fue un dia bueno. Yo fui a una excurs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 a pasar hora. Yo to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t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 Yo to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fotos de un cocodrilo, muchos peces, y seals. Los boques son hermoso. Pero, el agua es muy mal. Es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ucio. Pero yo no na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é en el agua, yo v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rededor d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o había un buen momento, y yo feliz yo fu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4381560" y="2133720"/>
            <a:ext cx="47624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4:05Z</dcterms:created>
  <dc:creator>dalyale</dc:creator>
  <dc:description/>
  <dc:language>en-US</dc:language>
  <cp:lastModifiedBy>dalyale</cp:lastModifiedBy>
  <dcterms:modified xsi:type="dcterms:W3CDTF">2011-11-30T16:49:24Z</dcterms:modified>
  <cp:revision>16</cp:revision>
  <dc:subject/>
  <dc:title>Mi gran viaje a la Argentina</dc:title>
</cp:coreProperties>
</file>